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D104-5D92-427D-B262-43C68409D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E6AE-62D8-45A3-8AFE-5FF9E7DA9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2A8F-77AB-4B18-8C92-1462D981D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E3AA-9A0B-4FF9-9DE1-45822A69E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CF1B-F422-47EE-8F98-0C675292CD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A442-BEA3-4240-A614-58840B7D1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F472-EC70-465F-AC64-69F1AF627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8ADA-71C2-4951-A70B-C642559EB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6CBF-D85C-4789-8C5C-83AF883FA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A3DC-5CE3-4063-89B2-D44AE680E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D26E-997D-4C7B-9A16-4285EE256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36DB-52F5-4C20-BB68-BD1FED358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7EDD-1F42-4C3A-91EE-CD43243380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CD8A-F872-4575-A4F9-C166451A5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7D75-FD2A-4F15-BA29-1D9701505C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7559-51A1-4DE9-BD85-6679A27845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CC3B-77A6-43D8-97B2-741C71393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ACDD-5F52-4ECF-94C1-7A056904A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97B-56FA-4AB2-B268-E0B4B0F1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93C8-40BD-4792-A1EA-5B9D9D177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3EFB-6368-490A-8C67-BFC9202E4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5E78-F51D-4C12-B5A0-434D192FA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AD13-A1C0-46E9-A802-199E505CA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4938-1A57-4A24-A78B-470A8051D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04E7-0080-42C4-89FB-657E12028A5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3E2B-94C7-4BE6-A465-38E58DDD6714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hyperlink" Target="http://www.portpromotions.com/media/ecom/prodlg/1215797672_Europe%2520-%2520Egypt%2520-%2520Pyramids.jp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portpromotions.com/media/ecom/prodlg/1215797672_Europe%20-%20Egypt%20-%20Pyramids.jpg" TargetMode="Externa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frica-facts.org/wp-content/uploads/2014/12/Nile-River-Facts.jpg" TargetMode="External"/><Relationship Id="rId2" Type="http://schemas.openxmlformats.org/officeDocument/2006/relationships/hyperlink" Target="http://africa-facts.org/wp-content/uploads/2014/12/Nile-River-Facts.jpg" TargetMode="External"/><Relationship Id="rId3" Type="http://schemas.openxmlformats.org/officeDocument/2006/relationships/image" Target="../media/image12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2.valdosta.edu/~anmills/sadface.jp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2.valdosta.edu/~anmills/sadface.jpg" TargetMode="External"/><Relationship Id="rId4" Type="http://schemas.openxmlformats.org/officeDocument/2006/relationships/slide" Target="slide9.xml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.telegraph.co.uk/multimedia/archive/02797/APCAMEL_2797442b.jp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oodlands-junior.kent.sch.uk/Homework/egypt/nile.htm" TargetMode="Externa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gdb.voanews.eu/017B5B34-C48F-4819-91F4-6E103EB2F908_mw800_s.jpg" TargetMode="External"/><Relationship Id="rId4" Type="http://schemas.openxmlformats.org/officeDocument/2006/relationships/hyperlink" Target="http://upload.wikimedia.org/wikipedia/commons/thumb/2/2b/White_and_Blue_Nile-en.svg/250px-White_and_Blue_Nile-en.svg.png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eveleys.co.uk/wonders/greatpyramid.ht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cleveleys.co.uk/wonders/greatpyramid.htm" TargetMode="External"/><Relationship Id="rId4" Type="http://schemas.openxmlformats.org/officeDocument/2006/relationships/hyperlink" Target="http://www.portpromotions.com/media/ecom/prodlg/1215797672_Europe%2520-%2520Egypt%2520-%2520Pyramids.jpg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portpromotions.com/media/ecom/prodlg/1215797672_Europe%2520-%2520Egypt%2520-%2520Pyramids.jpg" TargetMode="Externa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ythicalireland.com/ancientsites/world/egypt_great_pyramid_camel.jp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mythicalireland.com/ancientsites/world/egypt_great_pyramid_camel.jpg" TargetMode="Externa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hyperlink" Target="http://www.worldhistoricalsites.com/images/Valley%2520of%2520the%2520Kings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www.worldhistoricalsites.com/images/Valley%2520of%2520the%2520Kings.jpg" TargetMode="External"/><Relationship Id="rId8" Type="http://schemas.openxmlformats.org/officeDocument/2006/relationships/slide" Target="slide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hyperlink" Target="http://images.clipartpanda.com/laughing-smiley-face-clip-art-smiley-face-clip-art10.jpe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hyperlink" Target="http://www.icon100.com/up/3923/256/28-Sad-face.png" TargetMode="External"/><Relationship Id="rId4" Type="http://schemas.openxmlformats.org/officeDocument/2006/relationships/slide" Target="slide6.xml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hyperlink" Target="http://www.losviajeros.com/Fotos.php?pl=2085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losviajeros.com/Fotos.php?pl=2085" TargetMode="External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8200" y="29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gypt: The Land of Wonder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shley Brinkm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December 14, 201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1200" y="3076560"/>
            <a:ext cx="436896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1" action="ppaction://hlinksldjump"/>
              </a:rPr>
              <a:t>Nile River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2" action="ppaction://hlinksldjump"/>
              </a:rPr>
              <a:t>Great Pyramids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3" action="ppaction://hlinksldjump"/>
              </a:rPr>
              <a:t>Camels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4" action="ppaction://hlinksldjump"/>
              </a:rPr>
              <a:t>Quiz Yourself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</p:txBody>
      </p:sp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5520" y="2276640"/>
            <a:ext cx="2651400" cy="33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318440" y="5156280"/>
            <a:ext cx="139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portpromotions.com/media/ecom/prodlg/1215797672_Europe%20-%20Egypt%20-%20Pyramid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3159360" y="4978440"/>
            <a:ext cx="255348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1"/>
              </a:rPr>
              <a:t>http://africa-facts.org/wp-content/uploads/2014/12/Nile-River-Fact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5200" y="1549440"/>
            <a:ext cx="4403880" cy="3301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27880" y="5816520"/>
            <a:ext cx="2247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ops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62576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43480" y="4838760"/>
            <a:ext cx="2044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2.valdosta.edu/~anmills/sadface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6566040" y="5816520"/>
            <a:ext cx="232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anks for exploring Egypt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2925360" y="5854680"/>
            <a:ext cx="26996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1"/>
              </a:rPr>
              <a:t>http://i.telegraph.co.uk/multimedia/archive/02797/APCAMEL_2797442b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1371600"/>
            <a:ext cx="689760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Grande"/>
              </a:rPr>
              <a:t>Nile River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283760"/>
            <a:ext cx="4432320" cy="532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river is the life blood of Egyp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stretches from south to north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on river in map to see where it originat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49720" y="1258920"/>
            <a:ext cx="3810240" cy="462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27720" y="5951520"/>
            <a:ext cx="36702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2"/>
              </a:rPr>
              <a:t>http://www.woodlands-junior.kent.sch.uk/Homework/egypt/nile.htm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6730920" y="2158920"/>
            <a:ext cx="1067040" cy="3568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588600" y="635004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2382120" y="635004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3816360" y="635004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6360" y="603360"/>
            <a:ext cx="4889520" cy="2673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Nile is formed from the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White Ni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which originates at Lake Victoria and the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Blue Ni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which originates at Lake Tana in Ethiopia. These rivers meet in Sudan and then go on their long journey northwards towards the se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54720" y="603360"/>
            <a:ext cx="3174840" cy="417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3120" y="3389400"/>
            <a:ext cx="4622760" cy="346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37280" y="6337440"/>
            <a:ext cx="125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gdb.voanews.eu/017B5B34-C48F-4819-91F4-6E103EB2F908_mw800_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454720" y="4781520"/>
            <a:ext cx="339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/>
              </a:rPr>
              <a:t>http://upload.wikimedia.org/wikipedia/commons/thumb/2/2b/White_and_Blue_Nile-en.svg/250px-White_and_Blue_Nile-en.svg.pn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023240" y="5689440"/>
            <a:ext cx="2082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Back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25920" cy="9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Grande"/>
              </a:rPr>
              <a:t>Great Pyramids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9360" y="1239840"/>
            <a:ext cx="4417920" cy="4695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 fontScale="94000"/>
          </a:bodyPr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Located in Giza, the Great Pyramids were the resting places of kings and other people of wealth. 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Originally covered with a marble type rock, today they look more like the photos on the right.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The Romans defaced them with graffiti and used them for target practice. That’s why the Sphinx doesn’t have a nose.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15040" y="136440"/>
            <a:ext cx="3684600" cy="245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62600" y="2624040"/>
            <a:ext cx="3365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cleveleys.co.uk/wonders/greatpyramid.htm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21320" y="2832120"/>
            <a:ext cx="3165480" cy="398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86280" y="3259080"/>
            <a:ext cx="673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/>
              </a:rPr>
              <a:t>http://www.portpromotions.com/media/ecom/prodlg/1215797672_Europe%20-%20Egypt%20-%20Pyramid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550440" y="632448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763000" y="632448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8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4362480" y="632448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9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am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3936960" cy="3861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n you are at the Great Pyramids, take a camel ride. This is how one travels the deser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8400" y="1417680"/>
            <a:ext cx="3578400" cy="23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8400" y="3992400"/>
            <a:ext cx="4584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mythicalireland.com/ancientsites/world/egypt_great_pyramid_camel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24880" y="598176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483640" y="598176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3956040" y="598176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168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Quick Quiz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440" y="759960"/>
            <a:ext cx="3835440" cy="50310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 fontScale="96000"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What is a traditional form of desert transportation in Egypt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1" action="ppaction://hlinksldjump"/>
              </a:rPr>
              <a:t>a. bu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2" action="ppaction://hlinksldjump"/>
              </a:rPr>
              <a:t>b. trai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3" action="ppaction://hlinksldjump"/>
              </a:rPr>
              <a:t>c. taxi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Grande"/>
                <a:ea typeface="ヒラギノ角ゴ ProN W3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4" action="ppaction://hlinksldjump"/>
              </a:rPr>
              <a:t>d. camel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02080" y="2522520"/>
            <a:ext cx="4460760" cy="297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52960" y="5583240"/>
            <a:ext cx="4191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worldhistoricalsites.com/images/Valley%20of%20the%20King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15680" y="615960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8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3270240" y="615960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9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5653440" y="1981080"/>
            <a:ext cx="197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alley of the Kin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nonlinear ppt.ppt_media/Winner-14.mov" descr=""/>
          <p:cNvPicPr/>
          <p:nvPr/>
        </p:nvPicPr>
        <p:blipFill>
          <a:blip r:embed="rId1"/>
          <a:stretch/>
        </p:blipFill>
        <p:spPr>
          <a:xfrm>
            <a:off x="546120" y="5803920"/>
            <a:ext cx="673200" cy="67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01720" y="6159600"/>
            <a:ext cx="1547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2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952880"/>
            <a:ext cx="4863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images.clipartpanda.com/laughing-smiley-face-clip-art-smiley-face-clip-art10.jpe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08440" y="1612800"/>
            <a:ext cx="332712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rry-Try again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nonlinear ppt.ppt_media/Just Stand Up-12.mov" descr=""/>
          <p:cNvPicPr/>
          <p:nvPr/>
        </p:nvPicPr>
        <p:blipFill>
          <a:blip r:embed="rId1"/>
          <a:stretch/>
        </p:blipFill>
        <p:spPr>
          <a:xfrm>
            <a:off x="723960" y="538488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46240" y="1511280"/>
            <a:ext cx="325152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43480" y="4851360"/>
            <a:ext cx="2616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icon100.com/up/3923/256/28-Sad-face.pn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224760" y="5969160"/>
            <a:ext cx="2070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ack to Question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1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. What river provides the life blood of Egyp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1" action="ppaction://hlinksldjump"/>
              </a:rPr>
              <a:t>Blue Danube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2" action="ppaction://hlinksldjump"/>
              </a:rPr>
              <a:t>Fox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3" action="ppaction://hlinksldjump"/>
              </a:rPr>
              <a:t>Nile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4" action="ppaction://hlinksldjump"/>
              </a:rPr>
              <a:t>Amazon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38720" y="2676600"/>
            <a:ext cx="4373640" cy="2922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21400" y="5846760"/>
            <a:ext cx="19936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losviajeros.com/Fotos.php?pl=2085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W Oshkosh</dc:creator>
  <dc:description/>
  <dc:language>en-US</dc:language>
  <cp:lastModifiedBy/>
  <cp:revision>0</cp:revision>
  <dc:subject/>
  <dc:title>Egypt: The Land of Wonder</dc:title>
</cp:coreProperties>
</file>